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A8B-2570-4517-A4B5-D397FBA5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3B9-FC79-4118-92EA-2DBFFA03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073-2E92-49D2-AA30-F8BE302D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C6D-E36C-4034-9258-3A7699E0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2E3-8638-4D57-81C7-47FABC56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57E-3C93-4F78-A246-41C3DCF6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B5F-4BC4-4F67-A575-4410688A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601-8509-4029-8C9C-7E568688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D90-8906-4ED9-8725-57341F5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933-1296-4DE0-BF6D-331CD09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2CD-71D4-4EB4-98E9-BAFA670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D38-988E-406E-A11D-DBEE721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82E5-D95D-40D7-8298-1E8E861BD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ttp//www.grist.org/phpThumb/phpThumb.php?src=http://www.grist.org/phpThumb/phpThumb.php?src=http://www.grist.org/i/assets/infographics/nitrogen_pathway.jpg&amp;w=615&amp;q=90&amp;w=61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685800"/>
            <a:ext cx="66294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Element: Nitrog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 Symbol: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AKOB AREN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Ashley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[Bohr Model of Nitrogen]"/>
          <p:cNvPicPr/>
          <p:nvPr/>
        </p:nvPicPr>
        <p:blipFill>
          <a:blip r:embed="rId1"/>
          <a:stretch/>
        </p:blipFill>
        <p:spPr>
          <a:xfrm>
            <a:off x="0" y="0"/>
            <a:ext cx="358128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and Chemical Properties of Nitr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- Color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of mater at room temp-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- 1.2506 g/c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ing Point- -209.9 °C (63.250008 K, -345.81998 °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iling Point-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195.8 °C (77.35 K, -320.44 °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or- No o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-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mmability- Not flam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reactive is it- very little reactions (not very re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5343480"/>
            <a:ext cx="335304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Element-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#- 7 protons and 7 neu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- 14.00674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and Group #- Period 2 group Nitroge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configuration and Valence Electrons- [He] 2s^2 2p^3, has 5 valenc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- Nitroge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4205160"/>
            <a:ext cx="3809880" cy="21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Nit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was originally discovered by a Scottish chemist, Daniel Rutherford, in 1772.  Scotland today mainly produces: Fur, Textiles, Metals, and Metal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is found in the air and is obtained by cooling, pressing and expanding air and then you get liquid nit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46875" t="32293" r="0" b="6251"/>
          <a:stretch/>
        </p:blipFill>
        <p:spPr>
          <a:xfrm>
            <a:off x="6172200" y="5105520"/>
            <a:ext cx="2666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Nit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experience nitrogen everyday whether its in the air you’re breathing or using it as fertilizer for food and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6705360" cy="2765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hemicalelements.com/elements/n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hemistryexplained.com/elements/L-P/Nitrogen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6:00:53Z</dcterms:created>
  <dc:creator>xpstudent</dc:creator>
  <dc:description/>
  <dc:language>en-US</dc:language>
  <cp:lastModifiedBy>xpstudent</cp:lastModifiedBy>
  <dcterms:modified xsi:type="dcterms:W3CDTF">2010-12-23T16:33:40Z</dcterms:modified>
  <cp:revision>4</cp:revision>
  <dc:subject/>
  <dc:title>My Element: Nitrogen  Element Symbol: N</dc:title>
</cp:coreProperties>
</file>